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56D-2FAB-401F-88C8-3C6C111C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94B-ADC7-4CB0-96BA-BECBD7D9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811-4738-4706-85E8-4013A8DB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354-0F51-42CE-8B27-0DB7CC92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5D7-270C-41CF-8BCC-58B524C1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ED0-409C-41AC-B57C-9F46F78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270-A586-4301-BA90-A6235B2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4FF-4D6D-432E-941D-35E1927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C80-1315-48A3-8AF3-92AAEE3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49D-316F-4CE6-9FC0-373DBED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591-6F58-48E0-B83B-3EBD6DB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1FC-40C7-4B59-BA6E-7ABBBF2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3F73-6528-454C-829E-943B6B41FB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680"/>
            <a:ext cx="915048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בר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T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, טירת צב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ציגה: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מערכת ממוחשבת לניהול אתר קומפוס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5280" y="189000"/>
            <a:ext cx="804960" cy="573120"/>
            <a:chOff x="395280" y="189000"/>
            <a:chExt cx="804960" cy="573120"/>
          </a:xfrm>
        </p:grpSpPr>
        <p:sp>
          <p:nvSpPr>
            <p:cNvPr id="45" name=""/>
            <p:cNvSpPr txBox="1"/>
            <p:nvPr/>
          </p:nvSpPr>
          <p:spPr>
            <a:xfrm>
              <a:off x="395280" y="18900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894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ff"/>
                      </a:gs>
                      <a:gs pos="100000">
                        <a:srgbClr val="c8ddfe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c8ddfe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27120" y="18900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935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8ddfe"/>
                      </a:gs>
                      <a:gs pos="100000">
                        <a:srgbClr val="0066ff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df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627120" y="280440"/>
              <a:ext cx="35748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9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rcRect l="0" t="0" r="3721" b="0"/>
          <a:stretch/>
        </p:blipFill>
        <p:spPr>
          <a:xfrm>
            <a:off x="7308720" y="189000"/>
            <a:ext cx="1600200" cy="5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5562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501012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מאפייני המערכ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70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תוכנת שקילה ידידותית במיוחד, מאפשרת לנהג לבצע שקילות בעצמו, ממשק נוח וברור, למינימום טעויות בתפעו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קבלת תעודות העמסה/משלוח/קליטה, עבור הבאת חומרי גלם ומשלוח תוצרת, גם כשהמשרד סגור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852640"/>
            <a:ext cx="3598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מנהל יכו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הציג ולעדכן את כ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השקילות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שבוצע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הפיק דוחות מקליט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חומר גלם וממשלוח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לנהל הזמנות של תוצר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אופן הפעולה - נה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413000"/>
            <a:ext cx="5132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הנהג מגיע לאתר ועולה על המשק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עביר כרטיס זיהו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קליד פרטי ההגע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קבל תעוד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935" t="8413" r="3483" b="11629"/>
          <a:stretch/>
        </p:blipFill>
        <p:spPr>
          <a:xfrm>
            <a:off x="2771640" y="3068640"/>
            <a:ext cx="6193080" cy="363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21282" b="22500"/>
          <a:stretch/>
        </p:blipFill>
        <p:spPr>
          <a:xfrm>
            <a:off x="324000" y="1413000"/>
            <a:ext cx="220968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1621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84978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אופן הפעולה - מנה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7815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271840" y="1413000"/>
            <a:ext cx="3547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כניס נתונים למערכ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כותב הזמנ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דפיס דוחו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מעדכן שקילות ועוד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80000" y="3500280"/>
            <a:ext cx="4582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3200"/>
            <a:ext cx="84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המערכת כוללת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553400"/>
            <a:ext cx="423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מחשב שקילה מתקדם, כולל מסך מגע "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תקשורת לשני ראשי שקיל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תקשורת רשת למחשב קיים במשרד האת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אופציה לקורא כרטיסים מגנטי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אופציה למדפסת צר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כל הציוד מובנה ומוגן בתוך ארון שליט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43909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a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9640" y="260280"/>
            <a:ext cx="804960" cy="573120"/>
            <a:chOff x="539640" y="260280"/>
            <a:chExt cx="804960" cy="573120"/>
          </a:xfrm>
        </p:grpSpPr>
        <p:sp>
          <p:nvSpPr>
            <p:cNvPr id="68" name=""/>
            <p:cNvSpPr txBox="1"/>
            <p:nvPr/>
          </p:nvSpPr>
          <p:spPr>
            <a:xfrm>
              <a:off x="539640" y="26028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2894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ff"/>
                      </a:gs>
                      <a:gs pos="100000">
                        <a:srgbClr val="c8ddfe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c8ddfe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71480" y="260280"/>
              <a:ext cx="573120" cy="57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935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8ddfe"/>
                      </a:gs>
                      <a:gs pos="100000">
                        <a:srgbClr val="0066ff"/>
                      </a:gs>
                    </a:gsLst>
                    <a:lin ang="5400000"/>
                  </a:gradFill>
                  <a:latin typeface="Times New Roman"/>
                </a:rPr>
                <a:t>T</a:t>
              </a:r>
              <a:endParaRPr b="1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df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71480" y="351720"/>
              <a:ext cx="35748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9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1"/>
          <a:srcRect l="0" t="0" r="3721" b="0"/>
          <a:stretch/>
        </p:blipFill>
        <p:spPr>
          <a:xfrm>
            <a:off x="7380360" y="260280"/>
            <a:ext cx="1600200" cy="53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3080" y="162864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קיבוץ טירת צבי   ד.נ  עמק בית שאן 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0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3920" y="2781360"/>
            <a:ext cx="242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ST.co.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t@TST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133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טלפון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-60788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פקס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-6078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5562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1:53:05Z</dcterms:created>
  <dc:creator>Amir</dc:creator>
  <dc:description/>
  <dc:language>en-US</dc:language>
  <cp:lastModifiedBy>SR-TST</cp:lastModifiedBy>
  <dcterms:modified xsi:type="dcterms:W3CDTF">2008-05-11T07:17:14Z</dcterms:modified>
  <cp:revision>33</cp:revision>
  <dc:subject/>
  <dc:title>זיהוי ושקילה אוטומטית של בני בקר</dc:title>
</cp:coreProperties>
</file>