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AB4-A7C5-4C9D-9B82-C74B0E4E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286-D740-4AED-BFF2-0A221983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FD1-9231-4287-9C6C-9889490A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CD6-B3BA-4B96-868C-750473B2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DAA-CC92-4C4B-8139-6C5DFD26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AD4-661E-4E89-A4B6-3D9AF332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B8C-6850-49C5-949B-3059DD64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C23-9DB6-4555-B2BF-9B35AAD7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194-525C-450D-AD85-58FB3FF6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505-AC5E-4AE2-BA48-240ECBA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AEA-20E4-4A52-9C52-C2D8EB93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E50-CFA3-496B-AE2E-19A4FEF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604E-AAEC-4D75-AEDB-5FBBB6EB50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680"/>
            <a:ext cx="915048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חבר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T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, טירת צב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ציגה: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מערכת ממוחשבת לניהול אתר קומפוס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5280" y="189000"/>
            <a:ext cx="804960" cy="573120"/>
            <a:chOff x="395280" y="189000"/>
            <a:chExt cx="804960" cy="573120"/>
          </a:xfrm>
        </p:grpSpPr>
        <p:sp>
          <p:nvSpPr>
            <p:cNvPr id="45" name=""/>
            <p:cNvSpPr txBox="1"/>
            <p:nvPr/>
          </p:nvSpPr>
          <p:spPr>
            <a:xfrm>
              <a:off x="395280" y="18900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2894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ff"/>
                      </a:gs>
                      <a:gs pos="100000">
                        <a:srgbClr val="c8ddfe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c8ddfe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627120" y="18900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935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8ddfe"/>
                      </a:gs>
                      <a:gs pos="100000">
                        <a:srgbClr val="0066ff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dfe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627120" y="280440"/>
              <a:ext cx="35748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solidFill>
                    <a:srgbClr val="ffffff"/>
                  </a:solidFill>
                  <a:latin typeface="Times New Roman"/>
                </a:rPr>
                <a:t>S</a:t>
              </a:r>
              <a:endParaRPr b="1" lang="en-US" sz="9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rcRect l="0" t="0" r="3721" b="0"/>
          <a:stretch/>
        </p:blipFill>
        <p:spPr>
          <a:xfrm>
            <a:off x="7308720" y="189000"/>
            <a:ext cx="1600200" cy="5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5562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501012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אפייני המערכ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70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תוכנת שקילה ידידותית במיוחד, מאפשרת לנהג לבצע שקילות בעצמו, ממשק נוח וברור, למינימום טעויות בתפעו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קבלת תעודות העמסה/משלוח/קליטה, עבור הבאת חומרי גלם ומשלוח תוצרת, גם כשהמשרד סגור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2852640"/>
            <a:ext cx="35989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מנהל יכו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הציג ולעדכן את כ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  השקילות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שבוצע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הפיק דוחות מקליט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  חומר גלם וממשלוח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נהל הזמנות של תוצר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אופן הפעולה - נה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92000" y="1413000"/>
            <a:ext cx="51325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הנהג מגיע לאתר ועולה על המשק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עביר כרטיס זיהו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קליד פרטי ההגע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קבל תעוד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935" t="8413" r="3483" b="11629"/>
          <a:stretch/>
        </p:blipFill>
        <p:spPr>
          <a:xfrm>
            <a:off x="2771640" y="3068640"/>
            <a:ext cx="6193080" cy="3639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21282" b="22500"/>
          <a:stretch/>
        </p:blipFill>
        <p:spPr>
          <a:xfrm>
            <a:off x="324000" y="1413000"/>
            <a:ext cx="2209680" cy="162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21621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84978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אופן הפעולה - מנה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7815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271840" y="1413000"/>
            <a:ext cx="3547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כניס נתונים למערכ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כותב הזמנו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דפיס דוחו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עדכן שקילות ועוד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80000" y="3500280"/>
            <a:ext cx="4582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03200"/>
            <a:ext cx="84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המערכת כוללת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553400"/>
            <a:ext cx="4237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מחשב שקילה מתקדם, כולל מסך מגע "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תקשורת לשני ראשי שקיל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תקשורת רשת למחשב קיים במשרד האת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אופציה לקורא כרטיסים מגנטי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אופציה למדפסת צר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כל הציוד מובנה ומוגן בתוך ארון שליט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631880"/>
            <a:ext cx="43909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39640" y="260280"/>
            <a:ext cx="804960" cy="573120"/>
            <a:chOff x="539640" y="260280"/>
            <a:chExt cx="804960" cy="573120"/>
          </a:xfrm>
        </p:grpSpPr>
        <p:sp>
          <p:nvSpPr>
            <p:cNvPr id="68" name=""/>
            <p:cNvSpPr txBox="1"/>
            <p:nvPr/>
          </p:nvSpPr>
          <p:spPr>
            <a:xfrm>
              <a:off x="539640" y="26028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2894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ff"/>
                      </a:gs>
                      <a:gs pos="100000">
                        <a:srgbClr val="c8ddfe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c8ddfe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771480" y="26028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935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8ddfe"/>
                      </a:gs>
                      <a:gs pos="100000">
                        <a:srgbClr val="0066ff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dfe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771480" y="351720"/>
              <a:ext cx="35748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solidFill>
                    <a:srgbClr val="ffffff"/>
                  </a:solidFill>
                  <a:latin typeface="Times New Roman"/>
                </a:rPr>
                <a:t>S</a:t>
              </a:r>
              <a:endParaRPr b="1" lang="en-US" sz="9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1"/>
          <a:srcRect l="0" t="0" r="3721" b="0"/>
          <a:stretch/>
        </p:blipFill>
        <p:spPr>
          <a:xfrm>
            <a:off x="7380360" y="260280"/>
            <a:ext cx="1600200" cy="53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3080" y="162864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T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קיבוץ טירת צבי   ד.נ  עמק בית שאן 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0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3920" y="2781360"/>
            <a:ext cx="2422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TST.co.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t@TST.co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133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טלפון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-60788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פקס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-6078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5562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1:53:05Z</dcterms:created>
  <dc:creator>Amir</dc:creator>
  <dc:description/>
  <dc:language>en-US</dc:language>
  <cp:lastModifiedBy>SR-TST</cp:lastModifiedBy>
  <dcterms:modified xsi:type="dcterms:W3CDTF">2008-05-11T07:17:14Z</dcterms:modified>
  <cp:revision>33</cp:revision>
  <dc:subject/>
  <dc:title>זיהוי ושקילה אוטומטית של בני בקר</dc:title>
</cp:coreProperties>
</file>