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BB2-E438-482E-ADE2-A5B6B2EF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00D-BEEC-44EB-A54E-3CBA850E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5A5-E05D-4791-BF18-A0D2A89A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456-1D01-4C8E-A17F-FEB61A7B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C871-33FF-42EF-8439-EBE3FA62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CBF8-4CF9-44C9-90CF-68820670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94FA-543D-4C31-B9CC-EF2BC852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F374-3389-4E0A-B689-69719E0A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B4F8-165B-4D20-B247-BB65B595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EB2F-9AE4-4791-ABD4-8F676B72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340E-D5CE-403B-AD0F-79A119A8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AEF-8C64-497B-9FB7-03EE3A2B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8DF7-8C9C-4BD2-8542-889F29E8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F86F-5891-404A-8376-0D3E821A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316F-5C4B-47F1-8D1A-1666016B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6149-B4FE-420D-A4CD-C24A0B77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85C9-69AE-47C5-9A90-99546641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6DE-2BB8-44D6-B5F3-5E6E99BF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803-1249-4867-B5ED-E30842A4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52B-1FF8-4EB2-AD85-5B60A1F7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56D-37C5-4743-A55C-1F7FB5CC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AC7-BC15-48F7-BB98-EECAB7E6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54F-7524-47B9-A1AA-2757D976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73B-00D7-48CE-B43B-9C845177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12000" y="92160"/>
            <a:ext cx="12240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228564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FISH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dot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NET – Fishery Control Syste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1080" y="36572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TST Technolog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bcbcb"/>
                </a:solidFill>
                <a:latin typeface="Arial"/>
              </a:rPr>
              <a:t>טירת צבי טכנולוגי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cbcbcb"/>
                </a:solidFill>
                <a:latin typeface="Arial"/>
              </a:rPr>
              <a:t>קיבוץ טירת צב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04-6078866/1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tst@tiratzvi.org.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3990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xygen Trend Analysis - O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558972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p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an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years/months/day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236680"/>
            <a:ext cx="36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ng an Oxygen Trend Analysis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, giving the breeder earlier notice of the behavior of the oxygen in the pool. (in day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558972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p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ramet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Oxygen, Temperature and Daily feed por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24360" y="1916280"/>
          <a:ext cx="506232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916280"/>
                    <a:ext cx="506232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8785440" cy="2664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xygen Trend Analys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08360" y="5370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89000"/>
          <a:ext cx="8704080" cy="17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989000"/>
                    <a:ext cx="8704080" cy="17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50920" y="1844640"/>
            <a:ext cx="8713800" cy="14436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3429000"/>
            <a:ext cx="1439640" cy="2664000"/>
          </a:xfrm>
          <a:prstGeom prst="rect">
            <a:avLst/>
          </a:pr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59280" y="3429000"/>
            <a:ext cx="504720" cy="2664000"/>
          </a:xfrm>
          <a:prstGeom prst="rect">
            <a:avLst/>
          </a:pr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eed Track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76720" y="112536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2349360"/>
            <a:ext cx="23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ct food supply using electronic sensors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weigh the silo conten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916360" y="2637000"/>
          <a:ext cx="532908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2637000"/>
                    <a:ext cx="532908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Using </a:t>
            </a:r>
            <a:r>
              <a:rPr b="0" i="1" lang="en-US" sz="4000" spc="-1" strike="noStrike">
                <a:solidFill>
                  <a:srgbClr val="cbcbcb"/>
                </a:solidFill>
                <a:latin typeface="Times New Roman"/>
              </a:rPr>
              <a:t>Wireless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Internet Commun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340000" y="2060640"/>
          <a:ext cx="5904000" cy="42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060640"/>
                    <a:ext cx="590400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MS Server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021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eekly Schedul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8000" y="2100240"/>
            <a:ext cx="49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ull-Time Control via your Mobile-Ph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8000" y="3298680"/>
            <a:ext cx="31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ceiving Alarms &amp; Repor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200" y="4437000"/>
            <a:ext cx="36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mote System Operation by sending text c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5400720" cy="3656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0956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MS Server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95280" y="2125800"/>
            <a:ext cx="3627360" cy="23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932360" y="3860640"/>
            <a:ext cx="3838680" cy="26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4140360" y="29257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iving F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5373720"/>
            <a:ext cx="2881440" cy="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5589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ting  F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492000" y="3645000"/>
            <a:ext cx="3024360" cy="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516720" y="3500280"/>
            <a:ext cx="0" cy="14472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40000" y="5373360"/>
            <a:ext cx="0" cy="144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ain Menu using Explor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0" y="566100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Centralized  information from scattered uni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920" y="206064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Operations, Alarms and Errors shown On-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920" y="4191120"/>
            <a:ext cx="26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Feeding Data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20" y="314172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Real-Time Oxygen &amp; Temperature Read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419640" y="2841480"/>
            <a:ext cx="5473440" cy="3324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19280" y="458136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 Portion           per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ing next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300996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FISHdotNE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application running on PDA– Pocket p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508720" y="2060640"/>
          <a:ext cx="2967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2060640"/>
                    <a:ext cx="2967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d  NOW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SH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dot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ET Advantag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2276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Conn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20720" y="303840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Machine to Machine Connection – Internet, Wireless overcoming the distance between the uni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20720" y="390852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Man to Machine Connection – Internet, S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4653000"/>
            <a:ext cx="640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ilored technological solutions – wyniwyg what you need is what you g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573408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and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x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day’s Modern Fisher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2349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plicated system &gt;&gt; a bigger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213000"/>
            <a:ext cx="88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ig risk &gt;&gt; the need for a good controlling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4149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ood controlling system &gt;&gt; Rel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48672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ck respons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55864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 Friendlines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0920" y="228564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FISH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dot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NET – Fishery Control Syste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981080" y="36572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TST Technolog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bcbcb"/>
                </a:solidFill>
                <a:latin typeface="Arial"/>
              </a:rPr>
              <a:t>טירת צבי טכנולוגי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cbcbcb"/>
                </a:solidFill>
                <a:latin typeface="Arial"/>
              </a:rPr>
              <a:t>קיבוץ טירת צב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04-6078866/1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tst@tiratzvi.org.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3990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blems </a:t>
            </a: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we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Fa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909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rol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2708280"/>
            <a:ext cx="46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lex Systems - built from many small independent units working 24 hours a day, 7 days  a wee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57895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rge Production complex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416232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lays in error notifi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464328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reliable Equipment - affected by age, water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4292640"/>
            <a:ext cx="108108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67280" y="5157720"/>
            <a:ext cx="12254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84720" y="5300280"/>
            <a:ext cx="1008000" cy="576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531504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ack of relevant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blems </a:t>
            </a: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we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Fa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52584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formation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2360" y="2852640"/>
            <a:ext cx="331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derwater visual contact with fish is NOT feasib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4005360"/>
            <a:ext cx="34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ays in diagnosis of dis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4508640"/>
            <a:ext cx="39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ta such as Oxygen &amp; Temperature readings, NO2, NH3, ph etc. is NOT avail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3500280"/>
            <a:ext cx="1441440" cy="790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211640" y="4437000"/>
            <a:ext cx="1440000" cy="5047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blems </a:t>
            </a: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we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Fa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52584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llow Up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2924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ystems make heavy use of  Resources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16720" y="364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16720" y="44434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18160" y="523548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36417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must control our expens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blems </a:t>
            </a: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we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Fa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262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Small Proble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6360" y="42181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our business effici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33321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our growth optim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50817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we wasting our resourc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blems </a:t>
            </a:r>
            <a:r>
              <a:rPr b="0" i="1" lang="en-US" sz="4400" spc="-1" strike="noStrike">
                <a:solidFill>
                  <a:srgbClr val="cbcbcb"/>
                </a:solidFill>
                <a:latin typeface="Times New Roman"/>
              </a:rPr>
              <a:t>we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Fa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262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BIG PROBLE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285264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reakdown in our systems could cause a  malfunction leading to an ECONOMIC  CATASTROP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4916520"/>
            <a:ext cx="88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WE PREPARED FOR SUCH A SITU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 . . .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256536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ouldn’t it be better working as PRO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t’s work with a System that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2720" y="2997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isplays Online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5430960"/>
            <a:ext cx="85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ultiple user interfaces – Internet, Wirel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, S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2720" y="378612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elps us Decide – By using Integrated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46497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elf Operating – Immediat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220176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liable, flexible and low-cost infra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19:41Z</dcterms:created>
  <dc:creator>1</dc:creator>
  <dc:description/>
  <dc:language>en-US</dc:language>
  <cp:lastModifiedBy>SR-TST</cp:lastModifiedBy>
  <dcterms:modified xsi:type="dcterms:W3CDTF">2008-03-24T07:32:58Z</dcterms:modified>
  <cp:revision>68</cp:revision>
  <dc:subject/>
  <dc:title>YONA.Net -  SMSserver </dc:title>
</cp:coreProperties>
</file>