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6937-89B3-4881-BD6E-F035EB5E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EF50-B297-42D2-B361-88146343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EF26-55AE-4C7A-9D3E-17D7524CF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70CC-298B-41C0-A518-89CBFF7BD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42E9-9B86-4AE5-88F2-FD1275530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EB08-1445-48FC-BD1E-AC773B2D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44B1-139F-471F-91DA-DB824A06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CDC7-6E94-467E-9D77-EB21C244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B17A-8C5E-4601-8C3D-DC11F472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B8DF-53A1-4D0B-B6FE-98CDB1A3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8CDF-4928-481C-8A7C-5DFCC0DC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A8F5-F02E-4756-B9C7-BC9C6D60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8CC5-4CD7-47F6-97C0-1369DADC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7872-5132-44FC-8A25-30465C81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8F87-715B-41B3-BEEF-F5126B7E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A885-824F-4E4E-A395-EFABD62A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380B-A968-4843-A1AB-6B317BA10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0C7F-EB0B-4CC2-A815-E49342C6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1942-281C-4303-956B-99AF11A7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D1E9-8AC2-4F5F-8F74-D84B142B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010C-893C-4D32-A666-A82F513C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FE10-8E12-4483-9DCA-1377213D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3530-6F45-483D-B8FD-A119D486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EE56-7DC4-4D09-853F-AB61C061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812000" y="92160"/>
            <a:ext cx="122400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0920" y="2285640"/>
            <a:ext cx="8281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FISH</a:t>
            </a:r>
            <a:r>
              <a:rPr b="0" lang="en-US" sz="2800" spc="-1" strike="noStrike">
                <a:solidFill>
                  <a:srgbClr val="cbcbcb"/>
                </a:solidFill>
                <a:latin typeface="Times New Roman"/>
              </a:rPr>
              <a:t>dot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NET – Fishery Control System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81080" y="36572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TST Technologi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cbcbcb"/>
                </a:solidFill>
                <a:latin typeface="Arial"/>
              </a:rPr>
              <a:t>טירת צבי טכנולוגיו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cbcbcb"/>
                </a:solidFill>
                <a:latin typeface="Arial"/>
              </a:rPr>
              <a:t>קיבוץ טירת צב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04-6078866/11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tst@tiratzvi.org.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39909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xygen Trend Analysis - O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64000" y="558972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ph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ang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years/months/day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2236680"/>
            <a:ext cx="367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ing an Oxygen Trend Analysis</a:t>
            </a: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ph, giving the breeder earlier notice of the behavior of the oxygen in the pool. (in days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558972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ph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arameter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 Oxygen, Temperature and Daily feed por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924360" y="1916280"/>
          <a:ext cx="506232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916280"/>
                    <a:ext cx="506232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9280" y="3789360"/>
            <a:ext cx="8785440" cy="2664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xygen Trend Analysi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9280" y="5373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08360" y="53704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89000"/>
          <a:ext cx="8704080" cy="177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989000"/>
                    <a:ext cx="8704080" cy="17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50920" y="1844640"/>
            <a:ext cx="8713800" cy="144360"/>
          </a:xfrm>
          <a:prstGeom prst="rect">
            <a:avLst/>
          </a:prstGeom>
          <a:solidFill>
            <a:srgbClr val="cbcbcb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03640" y="3429000"/>
            <a:ext cx="1439640" cy="2664000"/>
          </a:xfrm>
          <a:prstGeom prst="rect">
            <a:avLst/>
          </a:prstGeom>
          <a:noFill/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59280" y="3429000"/>
            <a:ext cx="504720" cy="2664000"/>
          </a:xfrm>
          <a:prstGeom prst="rect">
            <a:avLst/>
          </a:prstGeom>
          <a:noFill/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eed Track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076720" y="112536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50920" y="2349360"/>
            <a:ext cx="237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ct food supply using electronic sensors</a:t>
            </a: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t weigh the silo content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916360" y="2637000"/>
          <a:ext cx="5329080" cy="357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2637000"/>
                    <a:ext cx="532908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Using </a:t>
            </a:r>
            <a:r>
              <a:rPr b="0" i="1" lang="en-US" sz="4000" spc="-1" strike="noStrike">
                <a:solidFill>
                  <a:srgbClr val="cbcbcb"/>
                </a:solidFill>
                <a:latin typeface="Times New Roman"/>
              </a:rPr>
              <a:t>Wireless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 Internet Communic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340000" y="2060640"/>
          <a:ext cx="5904000" cy="42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060640"/>
                    <a:ext cx="5904000" cy="42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MS Server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8000" y="602136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eekly Schedul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8000" y="2100240"/>
            <a:ext cx="49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ull-Time Control via your Mobile-Ph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8000" y="3298680"/>
            <a:ext cx="316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eceiving Alarms &amp; Repor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200" y="4437000"/>
            <a:ext cx="367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emote System Operation by sending text co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564000" y="2852640"/>
            <a:ext cx="5400720" cy="3656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796000" y="1916280"/>
            <a:ext cx="309564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MS Server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95280" y="2125800"/>
            <a:ext cx="3627360" cy="238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932360" y="3860640"/>
            <a:ext cx="3838680" cy="267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3" name=""/>
          <p:cNvSpPr/>
          <p:nvPr/>
        </p:nvSpPr>
        <p:spPr>
          <a:xfrm>
            <a:off x="4140360" y="292572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eiving FA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5373720"/>
            <a:ext cx="2881440" cy="0"/>
          </a:xfrm>
          <a:prstGeom prst="line">
            <a:avLst/>
          </a:prstGeom>
          <a:ln cap="sq" w="7632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19280" y="5589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eting  FA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492000" y="3645000"/>
            <a:ext cx="3024360" cy="0"/>
          </a:xfrm>
          <a:prstGeom prst="line">
            <a:avLst/>
          </a:prstGeom>
          <a:ln cap="sq" w="7632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516720" y="3500280"/>
            <a:ext cx="0" cy="14472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40000" y="5373360"/>
            <a:ext cx="0" cy="14436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Main Menu using Explor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920" y="566100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 Centralized  information from scattered uni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920" y="206064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 Operations, Alarms and Errors shown On-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920" y="4191120"/>
            <a:ext cx="26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 Feeding Data –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920" y="314172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 Real-Time Oxygen &amp; Temperature Read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419640" y="2841480"/>
            <a:ext cx="5473440" cy="33242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19280" y="458136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 Portion           per 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ming next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3009960"/>
            <a:ext cx="489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FISHdotNE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application running on PDA– Pocket pc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508720" y="2060640"/>
          <a:ext cx="29671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2060640"/>
                    <a:ext cx="2967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d  NOW…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SH</a:t>
            </a: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dot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NET Advantag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32000" y="227664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ways Conn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20720" y="303840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 Machine to Machine Connection – Internet, Wireless overcoming the distance between the uni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20720" y="3908520"/>
            <a:ext cx="63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 Man to Machine Connection – Internet, S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32000" y="4653000"/>
            <a:ext cx="6408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ilored technological solutions – wyniwyg what you need is what you ge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32000" y="573408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and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exi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day’s Modern Fisheri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2349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omplicated system &gt;&gt; a bigger r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3213000"/>
            <a:ext cx="882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ig risk &gt;&gt; the need for a good controlling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414972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ood controlling system &gt;&gt; Rel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48672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ick response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76720" y="558648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r Friendlines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10920" y="2285640"/>
            <a:ext cx="8281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FISH</a:t>
            </a:r>
            <a:r>
              <a:rPr b="0" lang="en-US" sz="2800" spc="-1" strike="noStrike">
                <a:solidFill>
                  <a:srgbClr val="cbcbcb"/>
                </a:solidFill>
                <a:latin typeface="Times New Roman"/>
              </a:rPr>
              <a:t>dot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NET – Fishery Control System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981080" y="36572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TST Technologi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cbcbcb"/>
                </a:solidFill>
                <a:latin typeface="Arial"/>
              </a:rPr>
              <a:t>טירת צבי טכנולוגיו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cbcbcb"/>
                </a:solidFill>
                <a:latin typeface="Arial"/>
              </a:rPr>
              <a:t>קיבוץ טירת צב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04-6078866/11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tst@tiratzvi.org.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39909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oblems </a:t>
            </a:r>
            <a:r>
              <a:rPr b="0" i="1" lang="en-US" sz="4400" spc="-1" strike="noStrike">
                <a:solidFill>
                  <a:srgbClr val="cbcbcb"/>
                </a:solidFill>
                <a:latin typeface="Times New Roman"/>
              </a:rPr>
              <a:t>we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Fa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9092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rol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8000" y="2708280"/>
            <a:ext cx="460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lex Systems - built from many small independent units working 24 hours a day, 7 days  a wee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8000" y="578952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arge Production complex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35640" y="4162320"/>
            <a:ext cx="31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elays in error notific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8000" y="4643280"/>
            <a:ext cx="42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nreliable Equipment - affected by age, water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11640" y="4292640"/>
            <a:ext cx="108108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67280" y="5157720"/>
            <a:ext cx="12254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284720" y="5300280"/>
            <a:ext cx="1008000" cy="576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35640" y="531504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ack of relevant inform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oblems </a:t>
            </a:r>
            <a:r>
              <a:rPr b="0" i="1" lang="en-US" sz="4400" spc="-1" strike="noStrike">
                <a:solidFill>
                  <a:srgbClr val="cbcbcb"/>
                </a:solidFill>
                <a:latin typeface="Times New Roman"/>
              </a:rPr>
              <a:t>we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Fa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52584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formation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2360" y="2852640"/>
            <a:ext cx="331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nderwater visual contact with fish is NOT feasib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24360" y="4005360"/>
            <a:ext cx="341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lays in diagnosis of disea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4508640"/>
            <a:ext cx="396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ata such as Oxygen &amp; Temperature readings, NO2, NH3, ph etc. is NOT availa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11640" y="3500280"/>
            <a:ext cx="1441440" cy="7905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211640" y="4437000"/>
            <a:ext cx="1440000" cy="5047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oblems </a:t>
            </a:r>
            <a:r>
              <a:rPr b="0" i="1" lang="en-US" sz="4400" spc="-1" strike="noStrike">
                <a:solidFill>
                  <a:srgbClr val="cbcbcb"/>
                </a:solidFill>
                <a:latin typeface="Times New Roman"/>
              </a:rPr>
              <a:t>we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Fa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52584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llow Up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292428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systems make heavy use of  Resources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16720" y="36450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16720" y="44434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lectric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18160" y="523548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F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36417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must control our expense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oblems </a:t>
            </a:r>
            <a:r>
              <a:rPr b="0" i="1" lang="en-US" sz="4400" spc="-1" strike="noStrike">
                <a:solidFill>
                  <a:srgbClr val="cbcbcb"/>
                </a:solidFill>
                <a:latin typeface="Times New Roman"/>
              </a:rPr>
              <a:t>we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Fa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3262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Small Proble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76360" y="421812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our business effici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76360" y="333216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our growth optim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76360" y="50817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re we wasting our resourc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oblems </a:t>
            </a:r>
            <a:r>
              <a:rPr b="0" i="1" lang="en-US" sz="4400" spc="-1" strike="noStrike">
                <a:solidFill>
                  <a:srgbClr val="cbcbcb"/>
                </a:solidFill>
                <a:latin typeface="Times New Roman"/>
              </a:rPr>
              <a:t>we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Fa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3262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BIG PROBLE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2852640"/>
            <a:ext cx="65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reakdown in our systems could cause a  malfunction leading to an ECONOMIC  CATASTROP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4916520"/>
            <a:ext cx="88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WE PREPARED FOR SUCH A SITUA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o . . .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2565360"/>
            <a:ext cx="705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ouldn’t it be better working as PRO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Let’s work with a System that…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2720" y="2997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isplays Online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5430960"/>
            <a:ext cx="856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ultiple user interfaces – Internet, Wirel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N, S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2720" y="378612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elps us Decide – By using Integrated</a:t>
            </a: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p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" y="46497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elf Operating – Immediate Respo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2201760"/>
            <a:ext cx="82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eliable, flexible and low-cost infra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3:19:41Z</dcterms:created>
  <dc:creator>1</dc:creator>
  <dc:description/>
  <dc:language>en-US</dc:language>
  <cp:lastModifiedBy>SR-TST</cp:lastModifiedBy>
  <dcterms:modified xsi:type="dcterms:W3CDTF">2008-03-24T07:32:58Z</dcterms:modified>
  <cp:revision>68</cp:revision>
  <dc:subject/>
  <dc:title>YONA.Net -  SMSserver </dc:title>
</cp:coreProperties>
</file>